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11.png" ContentType="image/png"/>
  <Override PartName="/ppt/media/image6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8773-D8B5-4501-8ECF-1227B1FCF4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F2C7-8AB9-462A-9BD8-F8D04F7CED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138D-3584-4CB3-A73B-D979D875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CC9A-373A-4574-B586-B87D247A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5966-B458-4B5F-AAB6-E9B95B62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BEB5-E2B1-4057-A33F-8C92B55B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4E85-4A0D-4646-8630-8F8AF092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451-A25B-48AC-B41D-3DB928AE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4CE4-1C03-4564-90A6-1BFD76DA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03ED-F521-46C2-8A79-0A42D8D3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1508-A9A6-44AA-9361-3748625E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156D-33FC-4B6A-96A6-47AA815A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172F-94D2-44D0-A1E2-2008E742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7E3F-9906-4557-B62E-0B5DBBB2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85fb"/>
            </a:gs>
            <a:gs pos="50000">
              <a:srgbClr val="c1d0ff"/>
            </a:gs>
            <a:gs pos="100000">
              <a:srgbClr val="9985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9829-BF74-4F72-B40C-A9A8287D78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16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БОУ «Ленино-Кокушкинская СОШ»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ема:  «Какие налоги мы платим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ласс: 8</a:t>
            </a: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обществознания 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ндубаева Гузель Миндияровн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750564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Из школьных сочинени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4920" y="1219320"/>
            <a:ext cx="7543800" cy="1618560"/>
          </a:xfrm>
          <a:prstGeom prst="rect">
            <a:avLst/>
          </a:prstGeom>
          <a:solidFill>
            <a:srgbClr val="f9e1cf"/>
          </a:solidFill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Чем больше денег в казне, тем богаче наша школа. У нас будет много новых компьютеров и интересных книг. У нас будет большой читальный зал и плавательный бассейн. Мы будем часто ездить на экскурсии, в театры, в цирк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80880" y="4952880"/>
            <a:ext cx="7620120" cy="1618560"/>
          </a:xfrm>
          <a:prstGeom prst="rect">
            <a:avLst/>
          </a:prstGeom>
          <a:solidFill>
            <a:srgbClr val="ffffcc"/>
          </a:solidFill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Если все люди будут честно платить налоги, то наш город и наша страна будут богатыми, а люди счастливыми. Наши деды и бабушки будут получать большую пенсию. Ведь они заслужили ее за свою долгую жизнь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447920" y="3124080"/>
            <a:ext cx="7315200" cy="1313640"/>
          </a:xfrm>
          <a:prstGeom prst="rect">
            <a:avLst/>
          </a:prstGeom>
          <a:solidFill>
            <a:srgbClr val="ccffff"/>
          </a:solidFill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В стране будет сильная армия с пушками, танками, самолетами. Там никогда не будет аварий на подводных лодках. Солдаты будут сыты и хорошо одеты. На такую страну никогда не нападут враги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55640" y="1397160"/>
          <a:ext cx="4464000" cy="5030640"/>
        </p:xfrm>
        <a:graphic>
          <a:graphicData uri="http://schemas.openxmlformats.org/drawingml/2006/table">
            <a:tbl>
              <a:tblPr/>
              <a:tblGrid>
                <a:gridCol w="1487520"/>
                <a:gridCol w="1488960"/>
                <a:gridCol w="1487520"/>
              </a:tblGrid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9985fb"/>
                          </a:solidFill>
                          <a:latin typeface="Times New Roman"/>
                        </a:rPr>
                        <a:t>А1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18720">
                      <a:solidFill>
                        <a:srgbClr val="9985f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9985fb"/>
                          </a:solidFill>
                          <a:latin typeface="Times New Roman"/>
                        </a:rPr>
                        <a:t>Б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18720">
                      <a:solidFill>
                        <a:srgbClr val="9985f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9985fb"/>
                          </a:solidFill>
                          <a:latin typeface="Times New Roman"/>
                        </a:rPr>
                        <a:t>В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18720">
                      <a:solidFill>
                        <a:srgbClr val="9985fb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1872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1872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1872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39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3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6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6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51" name="Прямоугольник 2" descr=""/>
          <p:cNvPicPr/>
          <p:nvPr/>
        </p:nvPicPr>
        <p:blipFill>
          <a:blip r:embed="rId1"/>
          <a:stretch/>
        </p:blipFill>
        <p:spPr>
          <a:xfrm>
            <a:off x="1316160" y="19080"/>
            <a:ext cx="6797520" cy="14810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3" descr=""/>
          <p:cNvPicPr/>
          <p:nvPr/>
        </p:nvPicPr>
        <p:blipFill>
          <a:blip r:embed="rId2"/>
          <a:stretch/>
        </p:blipFill>
        <p:spPr>
          <a:xfrm>
            <a:off x="5168880" y="1238400"/>
            <a:ext cx="3878280" cy="229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55640" y="1397160"/>
          <a:ext cx="4464000" cy="5030640"/>
        </p:xfrm>
        <a:graphic>
          <a:graphicData uri="http://schemas.openxmlformats.org/drawingml/2006/table">
            <a:tbl>
              <a:tblPr/>
              <a:tblGrid>
                <a:gridCol w="1487520"/>
                <a:gridCol w="1488960"/>
                <a:gridCol w="1487520"/>
              </a:tblGrid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9985fb"/>
                          </a:solidFill>
                          <a:latin typeface="Times New Roman"/>
                        </a:rPr>
                        <a:t>А1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18720">
                      <a:solidFill>
                        <a:srgbClr val="9985f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9985fb"/>
                          </a:solidFill>
                          <a:latin typeface="Times New Roman"/>
                        </a:rPr>
                        <a:t>Б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18720">
                      <a:solidFill>
                        <a:srgbClr val="9985f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9985fb"/>
                          </a:solidFill>
                          <a:latin typeface="Times New Roman"/>
                        </a:rPr>
                        <a:t>В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18720">
                      <a:solidFill>
                        <a:srgbClr val="9985fb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2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1872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2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+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1872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2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-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1872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39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3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-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3 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-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3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-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4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4 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4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-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3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5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+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5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- -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5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6 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6 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6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+-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54" name="Прямоугольник 2" descr=""/>
          <p:cNvPicPr/>
          <p:nvPr/>
        </p:nvPicPr>
        <p:blipFill>
          <a:blip r:embed="rId2"/>
          <a:stretch/>
        </p:blipFill>
        <p:spPr>
          <a:xfrm>
            <a:off x="1316160" y="19080"/>
            <a:ext cx="6797520" cy="148104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3" descr=""/>
          <p:cNvPicPr/>
          <p:nvPr/>
        </p:nvPicPr>
        <p:blipFill>
          <a:blip r:embed="rId3"/>
          <a:stretch/>
        </p:blipFill>
        <p:spPr>
          <a:xfrm>
            <a:off x="5168880" y="1238400"/>
            <a:ext cx="3878280" cy="229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1258920" y="620640"/>
            <a:ext cx="662616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ямо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свенны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оходный 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циз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ДС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логовая ставка 13%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нси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ипенди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гиональны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стны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анспортный 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четы,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юдже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400, 3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5"/>
          <p:cNvSpPr txBox="1"/>
          <p:nvPr/>
        </p:nvSpPr>
        <p:spPr>
          <a:xfrm>
            <a:off x="685800" y="1066680"/>
            <a:ext cx="7543800" cy="17528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Налоги - принудительные  периодические платежи</a:t>
            </a:r>
            <a:endParaRPr b="0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раждан из их имуществ и доходов, идущие на </a:t>
            </a:r>
            <a:endParaRPr b="0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нужды государства и общества и установленные</a:t>
            </a:r>
            <a:endParaRPr b="0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в законодательном порядке.</a:t>
            </a:r>
            <a:endParaRPr b="0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343400" y="29718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ловарь Брокгауза и Эфро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80880" y="3429000"/>
            <a:ext cx="533520" cy="2837160"/>
          </a:xfrm>
          <a:prstGeom prst="rect">
            <a:avLst/>
          </a:prstGeom>
          <a:gradFill rotWithShape="0">
            <a:gsLst>
              <a:gs pos="0">
                <a:srgbClr val="9985fb"/>
              </a:gs>
              <a:gs pos="50000">
                <a:srgbClr val="ded8f6"/>
              </a:gs>
              <a:gs pos="100000">
                <a:srgbClr val="9985fb"/>
              </a:gs>
            </a:gsLst>
            <a:lin ang="0"/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нало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066680" y="3962520"/>
            <a:ext cx="7696440" cy="1922760"/>
          </a:xfrm>
          <a:prstGeom prst="rect">
            <a:avLst/>
          </a:prstGeom>
          <a:gradFill rotWithShape="0">
            <a:gsLst>
              <a:gs pos="0">
                <a:srgbClr val="c9bffd"/>
              </a:gs>
              <a:gs pos="50000">
                <a:srgbClr val="e7dff7"/>
              </a:gs>
              <a:gs pos="100000">
                <a:srgbClr val="c9bffd"/>
              </a:gs>
            </a:gsLst>
            <a:lin ang="5400000"/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1) Часть доходов граждан и предприят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2) Носит принудительный характер.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3) Выплата периодическ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4) Выплата в пользу государ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5) Определяется закон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11"/>
          <p:cNvSpPr txBox="1"/>
          <p:nvPr/>
        </p:nvSpPr>
        <p:spPr>
          <a:xfrm>
            <a:off x="3048120" y="304920"/>
            <a:ext cx="2971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логи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31"/>
          <p:cNvGrpSpPr/>
          <p:nvPr/>
        </p:nvGrpSpPr>
        <p:grpSpPr>
          <a:xfrm>
            <a:off x="609480" y="4419720"/>
            <a:ext cx="2019600" cy="2058840"/>
            <a:chOff x="609480" y="4419720"/>
            <a:chExt cx="2019600" cy="2058840"/>
          </a:xfrm>
        </p:grpSpPr>
        <p:pic>
          <p:nvPicPr>
            <p:cNvPr id="63" name="Picture 25" descr="C:\Program Files\Common Files\Microsoft Shared\Clipart\cagcat50\PE01616_.wmf"/>
            <p:cNvPicPr/>
            <p:nvPr/>
          </p:nvPicPr>
          <p:blipFill>
            <a:blip r:embed="rId1"/>
            <a:stretch/>
          </p:blipFill>
          <p:spPr>
            <a:xfrm>
              <a:off x="609480" y="5334120"/>
              <a:ext cx="121932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AutoShape 26"/>
            <p:cNvSpPr/>
            <p:nvPr/>
          </p:nvSpPr>
          <p:spPr>
            <a:xfrm rot="18294600">
              <a:off x="1595160" y="4814640"/>
              <a:ext cx="593640" cy="368280"/>
            </a:xfrm>
            <a:custGeom>
              <a:avLst/>
              <a:gdLst>
                <a:gd name="textAreaLeft" fmla="*/ 74160 w 593640"/>
                <a:gd name="textAreaRight" fmla="*/ 519480 w 593640"/>
                <a:gd name="textAreaTop" fmla="*/ 92160 h 368280"/>
                <a:gd name="textAreaBottom" fmla="*/ 27648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WordArt 29"/>
            <p:cNvSpPr txBox="1"/>
            <p:nvPr/>
          </p:nvSpPr>
          <p:spPr>
            <a:xfrm>
              <a:off x="1295280" y="4419720"/>
              <a:ext cx="1333800" cy="27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прямой налог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66" name="WordArt 4"/>
          <p:cNvSpPr txBox="1"/>
          <p:nvPr/>
        </p:nvSpPr>
        <p:spPr>
          <a:xfrm>
            <a:off x="2400480" y="304920"/>
            <a:ext cx="4343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налогов.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Oval 5"/>
          <p:cNvSpPr/>
          <p:nvPr/>
        </p:nvSpPr>
        <p:spPr>
          <a:xfrm>
            <a:off x="3814920" y="914400"/>
            <a:ext cx="1512720" cy="839880"/>
          </a:xfrm>
          <a:prstGeom prst="ellipse">
            <a:avLst/>
          </a:prstGeom>
          <a:gradFill rotWithShape="0">
            <a:gsLst>
              <a:gs pos="0">
                <a:srgbClr val="91eaff"/>
              </a:gs>
              <a:gs pos="100000">
                <a:srgbClr val="bade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нало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5867280" y="1371600"/>
            <a:ext cx="1860840" cy="457200"/>
          </a:xfrm>
          <a:prstGeom prst="rect">
            <a:avLst/>
          </a:prstGeom>
          <a:gradFill rotWithShape="0">
            <a:gsLst>
              <a:gs pos="0">
                <a:srgbClr val="c2e3f6"/>
              </a:gs>
              <a:gs pos="50000">
                <a:srgbClr val="6cc6e2"/>
              </a:gs>
              <a:gs pos="100000">
                <a:srgbClr val="c2e3f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косвен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1447920" y="1447920"/>
            <a:ext cx="1860480" cy="457200"/>
          </a:xfrm>
          <a:prstGeom prst="rect">
            <a:avLst/>
          </a:prstGeom>
          <a:gradFill rotWithShape="0">
            <a:gsLst>
              <a:gs pos="0">
                <a:srgbClr val="c2e3f6"/>
              </a:gs>
              <a:gs pos="50000">
                <a:srgbClr val="6cc6e2"/>
              </a:gs>
              <a:gs pos="100000">
                <a:srgbClr val="c2e3f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прям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9"/>
          <p:cNvSpPr/>
          <p:nvPr/>
        </p:nvSpPr>
        <p:spPr>
          <a:xfrm flipH="1" rot="18917400">
            <a:off x="3429000" y="1218960"/>
            <a:ext cx="457200" cy="381240"/>
          </a:xfrm>
          <a:custGeom>
            <a:avLst/>
            <a:gdLst>
              <a:gd name="textAreaLeft" fmla="*/ 56880 w 457200"/>
              <a:gd name="textAreaRight" fmla="*/ 400320 w 457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91fef"/>
          </a:solidFill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0"/>
          <p:cNvSpPr/>
          <p:nvPr/>
        </p:nvSpPr>
        <p:spPr>
          <a:xfrm flipH="1" rot="13548600">
            <a:off x="5370840" y="1256760"/>
            <a:ext cx="457200" cy="381600"/>
          </a:xfrm>
          <a:custGeom>
            <a:avLst/>
            <a:gdLst>
              <a:gd name="textAreaLeft" fmla="*/ 56880 w 457200"/>
              <a:gd name="textAreaRight" fmla="*/ 400320 w 457200"/>
              <a:gd name="textAreaTop" fmla="*/ 95400 h 381600"/>
              <a:gd name="textAreaBottom" fmla="*/ 286200 h 381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91fef"/>
          </a:solidFill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34"/>
          <p:cNvSpPr/>
          <p:nvPr/>
        </p:nvSpPr>
        <p:spPr>
          <a:xfrm rot="10809600">
            <a:off x="378720" y="2552760"/>
            <a:ext cx="3352680" cy="1751040"/>
          </a:xfrm>
          <a:prstGeom prst="wedgeEllipseCallout">
            <a:avLst>
              <a:gd name="adj1" fmla="val -31152"/>
              <a:gd name="adj2" fmla="val 84990"/>
            </a:avLst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Налог, взимаемый с доходов физических и юридических ли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38"/>
          <p:cNvSpPr/>
          <p:nvPr/>
        </p:nvSpPr>
        <p:spPr>
          <a:xfrm rot="10809600">
            <a:off x="5866560" y="2511000"/>
            <a:ext cx="3049560" cy="1752840"/>
          </a:xfrm>
          <a:prstGeom prst="wedgeEllipseCallout">
            <a:avLst>
              <a:gd name="adj1" fmla="val 41291"/>
              <a:gd name="adj2" fmla="val 85837"/>
            </a:avLst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Налог, взимаемый с товаров и видов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32"/>
          <p:cNvGrpSpPr/>
          <p:nvPr/>
        </p:nvGrpSpPr>
        <p:grpSpPr>
          <a:xfrm>
            <a:off x="3733920" y="3809880"/>
            <a:ext cx="2895480" cy="2896920"/>
            <a:chOff x="3733920" y="3809880"/>
            <a:chExt cx="2895480" cy="2896920"/>
          </a:xfrm>
        </p:grpSpPr>
        <p:pic>
          <p:nvPicPr>
            <p:cNvPr id="75" name="Picture 21" descr="C:\Program Files\Common Files\Microsoft Shared\Clipart\cagcat50\PE01616_.wmf"/>
            <p:cNvPicPr/>
            <p:nvPr/>
          </p:nvPicPr>
          <p:blipFill>
            <a:blip r:embed="rId2"/>
            <a:stretch/>
          </p:blipFill>
          <p:spPr>
            <a:xfrm>
              <a:off x="3733920" y="5562360"/>
              <a:ext cx="121896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4" descr="C:\Program Files\Common Files\Microsoft Shared\Clipart\cagcat50\TN00332_.wmf"/>
            <p:cNvPicPr/>
            <p:nvPr/>
          </p:nvPicPr>
          <p:blipFill>
            <a:blip r:embed="rId3"/>
            <a:stretch/>
          </p:blipFill>
          <p:spPr>
            <a:xfrm>
              <a:off x="5257800" y="4647960"/>
              <a:ext cx="137160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AutoShape 27"/>
            <p:cNvSpPr/>
            <p:nvPr/>
          </p:nvSpPr>
          <p:spPr>
            <a:xfrm rot="12590400">
              <a:off x="5257080" y="4190040"/>
              <a:ext cx="593640" cy="368280"/>
            </a:xfrm>
            <a:custGeom>
              <a:avLst/>
              <a:gdLst>
                <a:gd name="textAreaLeft" fmla="*/ 74160 w 593640"/>
                <a:gd name="textAreaRight" fmla="*/ 519480 w 593640"/>
                <a:gd name="textAreaTop" fmla="*/ 92160 h 368280"/>
                <a:gd name="textAreaBottom" fmla="*/ 27648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AutoShape 28"/>
            <p:cNvSpPr/>
            <p:nvPr/>
          </p:nvSpPr>
          <p:spPr>
            <a:xfrm rot="19517400">
              <a:off x="4876920" y="5485680"/>
              <a:ext cx="593640" cy="368280"/>
            </a:xfrm>
            <a:custGeom>
              <a:avLst/>
              <a:gdLst>
                <a:gd name="textAreaLeft" fmla="*/ 74160 w 593640"/>
                <a:gd name="textAreaRight" fmla="*/ 519480 w 593640"/>
                <a:gd name="textAreaTop" fmla="*/ 92160 h 368280"/>
                <a:gd name="textAreaBottom" fmla="*/ 27648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WordArt 30"/>
            <p:cNvSpPr txBox="1"/>
            <p:nvPr/>
          </p:nvSpPr>
          <p:spPr>
            <a:xfrm>
              <a:off x="4343400" y="3809880"/>
              <a:ext cx="1714680" cy="27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косвенный налог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2400480" y="304920"/>
            <a:ext cx="4343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налогов.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Oval 5"/>
          <p:cNvSpPr/>
          <p:nvPr/>
        </p:nvSpPr>
        <p:spPr>
          <a:xfrm>
            <a:off x="3814920" y="914400"/>
            <a:ext cx="1512720" cy="839880"/>
          </a:xfrm>
          <a:prstGeom prst="ellipse">
            <a:avLst/>
          </a:prstGeom>
          <a:gradFill rotWithShape="0">
            <a:gsLst>
              <a:gs pos="0">
                <a:srgbClr val="91eaff"/>
              </a:gs>
              <a:gs pos="100000">
                <a:srgbClr val="bade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нало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6"/>
          <p:cNvSpPr/>
          <p:nvPr/>
        </p:nvSpPr>
        <p:spPr>
          <a:xfrm flipH="1" rot="18917400">
            <a:off x="3047040" y="1447920"/>
            <a:ext cx="609480" cy="380880"/>
          </a:xfrm>
          <a:custGeom>
            <a:avLst/>
            <a:gdLst>
              <a:gd name="textAreaLeft" fmla="*/ 7596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91fef"/>
          </a:solidFill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7"/>
          <p:cNvSpPr/>
          <p:nvPr/>
        </p:nvSpPr>
        <p:spPr>
          <a:xfrm flipH="1" rot="13548600">
            <a:off x="5675760" y="1485360"/>
            <a:ext cx="609480" cy="381240"/>
          </a:xfrm>
          <a:custGeom>
            <a:avLst/>
            <a:gdLst>
              <a:gd name="textAreaLeft" fmla="*/ 7596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91fef"/>
          </a:solidFill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8"/>
          <p:cNvSpPr/>
          <p:nvPr/>
        </p:nvSpPr>
        <p:spPr>
          <a:xfrm flipH="1" rot="16290000">
            <a:off x="4304160" y="1904760"/>
            <a:ext cx="533520" cy="380880"/>
          </a:xfrm>
          <a:custGeom>
            <a:avLst/>
            <a:gdLst>
              <a:gd name="textAreaLeft" fmla="*/ 108000 w 533520"/>
              <a:gd name="textAreaRight" fmla="*/ 425520 w 533520"/>
              <a:gd name="textAreaTop" fmla="*/ 85320 h 380880"/>
              <a:gd name="textAreaBottom" fmla="*/ 2955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4842"/>
                </a:moveTo>
                <a:lnTo>
                  <a:pt x="13655" y="4842"/>
                </a:lnTo>
                <a:lnTo>
                  <a:pt x="13655" y="0"/>
                </a:lnTo>
                <a:lnTo>
                  <a:pt x="21600" y="10800"/>
                </a:lnTo>
                <a:lnTo>
                  <a:pt x="13655" y="21600"/>
                </a:lnTo>
                <a:lnTo>
                  <a:pt x="13655" y="16758"/>
                </a:lnTo>
                <a:lnTo>
                  <a:pt x="0" y="16758"/>
                </a:lnTo>
                <a:lnTo>
                  <a:pt x="4383" y="10800"/>
                </a:lnTo>
                <a:lnTo>
                  <a:pt x="0" y="4842"/>
                </a:lnTo>
                <a:close/>
              </a:path>
            </a:pathLst>
          </a:custGeom>
          <a:solidFill>
            <a:srgbClr val="091fef"/>
          </a:solidFill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161720" y="1878120"/>
            <a:ext cx="24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 Black"/>
              </a:rPr>
              <a:t>Федер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3312360" y="259092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 Black"/>
              </a:rPr>
              <a:t>Регион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5773320" y="19051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 Black"/>
              </a:rPr>
              <a:t>Мест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762120" y="2819520"/>
            <a:ext cx="2133360" cy="23619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9ccff"/>
              </a:gs>
            </a:gsLst>
            <a:lin ang="5400000"/>
          </a:gradFill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оступа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едера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бюдж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6400800" y="2895480"/>
            <a:ext cx="1981080" cy="23623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9ccff"/>
              </a:gs>
            </a:gsLst>
            <a:lin ang="5400000"/>
          </a:gradFill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оступа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бюдже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город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 район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3543480" y="3809880"/>
            <a:ext cx="2057400" cy="23623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9ccff"/>
              </a:gs>
            </a:gsLst>
            <a:lin ang="5400000"/>
          </a:gradFill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оступа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бюдж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убъе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едер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5"/>
          <p:cNvSpPr/>
          <p:nvPr/>
        </p:nvSpPr>
        <p:spPr>
          <a:xfrm flipH="1" rot="16290000">
            <a:off x="4304160" y="3238200"/>
            <a:ext cx="533520" cy="380880"/>
          </a:xfrm>
          <a:custGeom>
            <a:avLst/>
            <a:gdLst>
              <a:gd name="textAreaLeft" fmla="*/ 108000 w 533520"/>
              <a:gd name="textAreaRight" fmla="*/ 425520 w 533520"/>
              <a:gd name="textAreaTop" fmla="*/ 85320 h 380880"/>
              <a:gd name="textAreaBottom" fmla="*/ 2955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4842"/>
                </a:moveTo>
                <a:lnTo>
                  <a:pt x="13655" y="4842"/>
                </a:lnTo>
                <a:lnTo>
                  <a:pt x="13655" y="0"/>
                </a:lnTo>
                <a:lnTo>
                  <a:pt x="21600" y="10800"/>
                </a:lnTo>
                <a:lnTo>
                  <a:pt x="13655" y="21600"/>
                </a:lnTo>
                <a:lnTo>
                  <a:pt x="13655" y="16758"/>
                </a:lnTo>
                <a:lnTo>
                  <a:pt x="0" y="16758"/>
                </a:lnTo>
                <a:lnTo>
                  <a:pt x="4383" y="10800"/>
                </a:lnTo>
                <a:lnTo>
                  <a:pt x="0" y="4842"/>
                </a:lnTo>
                <a:close/>
              </a:path>
            </a:pathLst>
          </a:custGeom>
          <a:solidFill>
            <a:srgbClr val="091fef"/>
          </a:solidFill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6"/>
          <p:cNvSpPr/>
          <p:nvPr/>
        </p:nvSpPr>
        <p:spPr>
          <a:xfrm flipH="1" rot="16290000">
            <a:off x="6628680" y="2438280"/>
            <a:ext cx="533160" cy="380880"/>
          </a:xfrm>
          <a:custGeom>
            <a:avLst/>
            <a:gdLst>
              <a:gd name="textAreaLeft" fmla="*/ 108000 w 533160"/>
              <a:gd name="textAreaRight" fmla="*/ 425160 w 533160"/>
              <a:gd name="textAreaTop" fmla="*/ 85320 h 380880"/>
              <a:gd name="textAreaBottom" fmla="*/ 2955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4842"/>
                </a:moveTo>
                <a:lnTo>
                  <a:pt x="13655" y="4842"/>
                </a:lnTo>
                <a:lnTo>
                  <a:pt x="13655" y="0"/>
                </a:lnTo>
                <a:lnTo>
                  <a:pt x="21600" y="10800"/>
                </a:lnTo>
                <a:lnTo>
                  <a:pt x="13655" y="21600"/>
                </a:lnTo>
                <a:lnTo>
                  <a:pt x="13655" y="16758"/>
                </a:lnTo>
                <a:lnTo>
                  <a:pt x="0" y="16758"/>
                </a:lnTo>
                <a:lnTo>
                  <a:pt x="4383" y="10800"/>
                </a:lnTo>
                <a:lnTo>
                  <a:pt x="0" y="4842"/>
                </a:lnTo>
                <a:close/>
              </a:path>
            </a:pathLst>
          </a:custGeom>
          <a:solidFill>
            <a:srgbClr val="091fef"/>
          </a:solidFill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7"/>
          <p:cNvSpPr/>
          <p:nvPr/>
        </p:nvSpPr>
        <p:spPr>
          <a:xfrm flipH="1" rot="16290000">
            <a:off x="1751400" y="2361960"/>
            <a:ext cx="533520" cy="380880"/>
          </a:xfrm>
          <a:custGeom>
            <a:avLst/>
            <a:gdLst>
              <a:gd name="textAreaLeft" fmla="*/ 108000 w 533520"/>
              <a:gd name="textAreaRight" fmla="*/ 425520 w 533520"/>
              <a:gd name="textAreaTop" fmla="*/ 85320 h 380880"/>
              <a:gd name="textAreaBottom" fmla="*/ 2955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4842"/>
                </a:moveTo>
                <a:lnTo>
                  <a:pt x="13655" y="4842"/>
                </a:lnTo>
                <a:lnTo>
                  <a:pt x="13655" y="0"/>
                </a:lnTo>
                <a:lnTo>
                  <a:pt x="21600" y="10800"/>
                </a:lnTo>
                <a:lnTo>
                  <a:pt x="13655" y="21600"/>
                </a:lnTo>
                <a:lnTo>
                  <a:pt x="13655" y="16758"/>
                </a:lnTo>
                <a:lnTo>
                  <a:pt x="0" y="16758"/>
                </a:lnTo>
                <a:lnTo>
                  <a:pt x="4383" y="10800"/>
                </a:lnTo>
                <a:lnTo>
                  <a:pt x="0" y="4842"/>
                </a:lnTo>
                <a:close/>
              </a:path>
            </a:pathLst>
          </a:custGeom>
          <a:solidFill>
            <a:srgbClr val="091fef"/>
          </a:solidFill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10"/>
          <p:cNvSpPr txBox="1"/>
          <p:nvPr/>
        </p:nvSpPr>
        <p:spPr>
          <a:xfrm>
            <a:off x="2814480" y="380880"/>
            <a:ext cx="3515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ункции налогов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AutoShape 11"/>
          <p:cNvSpPr/>
          <p:nvPr/>
        </p:nvSpPr>
        <p:spPr>
          <a:xfrm flipH="1" rot="19902600">
            <a:off x="2589840" y="1142640"/>
            <a:ext cx="838080" cy="485640"/>
          </a:xfrm>
          <a:custGeom>
            <a:avLst/>
            <a:gdLst>
              <a:gd name="textAreaLeft" fmla="*/ 104760 w 838080"/>
              <a:gd name="textAreaRight" fmla="*/ 733320 w 83808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33cc"/>
          </a:solidFill>
          <a:ln w="19080">
            <a:solidFill>
              <a:srgbClr val="ff0000"/>
            </a:solidFill>
            <a:miter/>
          </a:ln>
          <a:effectLst>
            <a:outerShdw dist="102298" dir="424499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3"/>
          <p:cNvSpPr/>
          <p:nvPr/>
        </p:nvSpPr>
        <p:spPr>
          <a:xfrm flipH="1" rot="13492200">
            <a:off x="5562360" y="1218600"/>
            <a:ext cx="838080" cy="485640"/>
          </a:xfrm>
          <a:custGeom>
            <a:avLst/>
            <a:gdLst>
              <a:gd name="textAreaLeft" fmla="*/ 104760 w 838080"/>
              <a:gd name="textAreaRight" fmla="*/ 733320 w 83808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33cc"/>
          </a:solidFill>
          <a:ln w="19080">
            <a:solidFill>
              <a:srgbClr val="ff0000"/>
            </a:solidFill>
            <a:miter/>
          </a:ln>
          <a:effectLst>
            <a:outerShdw dist="102298" dir="424499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6"/>
          <p:cNvSpPr/>
          <p:nvPr/>
        </p:nvSpPr>
        <p:spPr>
          <a:xfrm flipV="1">
            <a:off x="914400" y="175248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ffd7d7"/>
          </a:solidFill>
          <a:ln w="19080">
            <a:solidFill>
              <a:srgbClr val="0000ff"/>
            </a:solidFill>
            <a:miter/>
          </a:ln>
          <a:effectLst>
            <a:outerShdw dist="127008" dir="2216091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Фискаль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8"/>
          <p:cNvSpPr/>
          <p:nvPr/>
        </p:nvSpPr>
        <p:spPr>
          <a:xfrm flipV="1">
            <a:off x="3448080" y="2209680"/>
            <a:ext cx="2247840" cy="457200"/>
          </a:xfrm>
          <a:prstGeom prst="roundRect">
            <a:avLst>
              <a:gd name="adj" fmla="val 16667"/>
            </a:avLst>
          </a:prstGeom>
          <a:solidFill>
            <a:srgbClr val="ffd7d7"/>
          </a:solidFill>
          <a:ln w="19080">
            <a:solidFill>
              <a:srgbClr val="0000ff"/>
            </a:solidFill>
            <a:miter/>
          </a:ln>
          <a:effectLst>
            <a:outerShdw dist="127008" dir="2216091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Регулиру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9"/>
          <p:cNvSpPr/>
          <p:nvPr/>
        </p:nvSpPr>
        <p:spPr>
          <a:xfrm flipV="1">
            <a:off x="6248520" y="1981080"/>
            <a:ext cx="2438280" cy="457200"/>
          </a:xfrm>
          <a:prstGeom prst="roundRect">
            <a:avLst>
              <a:gd name="adj" fmla="val 16667"/>
            </a:avLst>
          </a:prstGeom>
          <a:solidFill>
            <a:srgbClr val="ffd7d7"/>
          </a:solidFill>
          <a:ln w="19080">
            <a:solidFill>
              <a:srgbClr val="0000ff"/>
            </a:solidFill>
            <a:miter/>
          </a:ln>
          <a:effectLst>
            <a:outerShdw dist="127008" dir="2216091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тимулиру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0" descr="C:\Documents and Settings\User\My Documents\My Pictures\Налоги\Хлеб-поделись.JPG"/>
          <p:cNvPicPr/>
          <p:nvPr/>
        </p:nvPicPr>
        <p:blipFill>
          <a:blip r:embed="rId1"/>
          <a:srcRect l="4107" t="0" r="5216" b="3599"/>
          <a:stretch/>
        </p:blipFill>
        <p:spPr>
          <a:xfrm>
            <a:off x="3733920" y="3124080"/>
            <a:ext cx="1676160" cy="1447920"/>
          </a:xfrm>
          <a:prstGeom prst="rect">
            <a:avLst/>
          </a:prstGeom>
          <a:ln w="76320">
            <a:solidFill>
              <a:srgbClr val="3f0cd0"/>
            </a:solidFill>
            <a:miter/>
          </a:ln>
        </p:spPr>
      </p:pic>
      <p:pic>
        <p:nvPicPr>
          <p:cNvPr id="101" name="Picture 25" descr="C:\Documents and Settings\User\My Documents\My Pictures\Налоги\Деньги-поделись.JPG"/>
          <p:cNvPicPr/>
          <p:nvPr/>
        </p:nvPicPr>
        <p:blipFill>
          <a:blip r:embed="rId2"/>
          <a:srcRect l="0" t="0" r="7924" b="0"/>
          <a:stretch/>
        </p:blipFill>
        <p:spPr>
          <a:xfrm>
            <a:off x="3693960" y="4876920"/>
            <a:ext cx="1754280" cy="1422360"/>
          </a:xfrm>
          <a:prstGeom prst="rect">
            <a:avLst/>
          </a:prstGeom>
          <a:ln w="76320">
            <a:solidFill>
              <a:srgbClr val="3f0cd0"/>
            </a:solidFill>
            <a:miter/>
          </a:ln>
        </p:spPr>
      </p:pic>
      <p:pic>
        <p:nvPicPr>
          <p:cNvPr id="102" name="Picture 26" descr="C:\Documents and Settings\User\My Documents\My Pictures\Налоги\Сундук.JPG"/>
          <p:cNvPicPr/>
          <p:nvPr/>
        </p:nvPicPr>
        <p:blipFill>
          <a:blip r:embed="rId3"/>
          <a:srcRect l="12309" t="0" r="4621" b="0"/>
          <a:stretch/>
        </p:blipFill>
        <p:spPr>
          <a:xfrm>
            <a:off x="762120" y="3429000"/>
            <a:ext cx="2057400" cy="1905120"/>
          </a:xfrm>
          <a:prstGeom prst="rect">
            <a:avLst/>
          </a:prstGeom>
          <a:ln w="76320">
            <a:solidFill>
              <a:srgbClr val="3f0cd0"/>
            </a:solidFill>
            <a:miter/>
          </a:ln>
        </p:spPr>
      </p:pic>
      <p:pic>
        <p:nvPicPr>
          <p:cNvPr id="103" name="Picture 27" descr="C:\Program Files\Common Files\Microsoft Shared\Clipart\cagcat50\BD05158_.WMF"/>
          <p:cNvPicPr/>
          <p:nvPr/>
        </p:nvPicPr>
        <p:blipFill>
          <a:blip r:embed="rId4"/>
          <a:srcRect l="9172" t="12173" r="11257" b="15081"/>
          <a:stretch/>
        </p:blipFill>
        <p:spPr>
          <a:xfrm>
            <a:off x="6477120" y="3429000"/>
            <a:ext cx="1979640" cy="1828800"/>
          </a:xfrm>
          <a:prstGeom prst="rect">
            <a:avLst/>
          </a:prstGeom>
          <a:ln w="76320">
            <a:solidFill>
              <a:srgbClr val="3f0cd0"/>
            </a:solidFill>
            <a:miter/>
          </a:ln>
        </p:spPr>
      </p:pic>
      <p:sp>
        <p:nvSpPr>
          <p:cNvPr id="104" name="AutoShape 29"/>
          <p:cNvSpPr/>
          <p:nvPr/>
        </p:nvSpPr>
        <p:spPr>
          <a:xfrm flipH="1" rot="16192200">
            <a:off x="4152240" y="1395360"/>
            <a:ext cx="838080" cy="486000"/>
          </a:xfrm>
          <a:custGeom>
            <a:avLst/>
            <a:gdLst>
              <a:gd name="textAreaLeft" fmla="*/ 104760 w 838080"/>
              <a:gd name="textAreaRight" fmla="*/ 733320 w 83808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33cc"/>
          </a:solidFill>
          <a:ln w="19080">
            <a:solidFill>
              <a:srgbClr val="ff0000"/>
            </a:solidFill>
            <a:miter/>
          </a:ln>
          <a:effectLst>
            <a:outerShdw dist="102298" dir="424499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7632720" cy="518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иктимерова Л М</dc:creator>
  <dc:description/>
  <dc:language>en-US</dc:language>
  <cp:lastModifiedBy>Гузель</cp:lastModifiedBy>
  <dcterms:modified xsi:type="dcterms:W3CDTF">2020-04-07T17:30:23Z</dcterms:modified>
  <cp:revision>60</cp:revision>
  <dc:subject/>
  <dc:title>Презентация PowerPoint</dc:title>
</cp:coreProperties>
</file>